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7AFD-AAF5-48F3-8CF6-0395EB8D12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96F8-C7C4-4525-A696-D319678D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05FE4B-7372-451E-B6D1-F7C0F3DF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F59E89-907D-4461-9692-8CFF7A02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A3AE84-E8F4-4FC9-AA75-824E9798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F01AD1-1A63-4103-9B42-ADDCD981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2FC32F-0059-4EA2-9378-0A577007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907260-865F-43BC-9D19-86D06729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F9413B-31CF-474D-AC78-C56DB7A5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EDC04D-7829-4AEE-9BC7-881FB24E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A65C5D-37A6-493F-9A87-CE930D7795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D30FE-DC37-49C2-BAC4-3950602395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7770-80A7-42F2-9C39-517E5A8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DCCDF-859C-4FE7-8F62-F151FA24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679B1-0D8B-40D9-9F5E-DBAEF833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5DACC-C12F-4E53-ABA2-8E55C54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AB7E-6049-44AF-8BA3-1D51CF5B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1808-C389-40BD-AA69-4763DF48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EA5D9-5A18-4D62-8E78-D7572CF5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9B6C-11AD-4FA8-A3A1-B2021A5A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4BAB-EB25-49C0-9489-4CB3BFC0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FFFCC-5F81-49DD-9AB8-CC7654E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38838-C999-4B6B-9E94-4B47F549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3282-9BE1-492C-9F8F-B55FFD021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61562-EADB-4B3D-9362-D4AA85535E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D2D91C-3A1D-40AA-A860-1C7825569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BDDD39-489F-43AB-B948-5AA73A1C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51CD58-39F8-4DFF-A6A3-DFE07D56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E33D5-7210-4478-82E5-0A44F146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222A64-7C61-49E2-B2E7-C875397C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CE0CB-C1AB-4154-96FF-93AB834C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2A0AF9-80D6-419D-80C5-9998D0C6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5D5BA-2E1E-466D-B5A1-4F9E2699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5845D-742E-48BD-8891-2676C22E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B2544-821E-41C8-8E70-F25AE1A1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530FA7-3903-4851-ADA4-4F880645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F4296-F186-4F6B-8B56-C1BD2C9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C72EEE-F35C-4296-94B2-E5843DAB8F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E26A0-7A45-4244-9556-25217FAD38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6DF5D-3910-4FD5-8329-8B414883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C7DEE-DA9D-4015-8939-13068785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1503C-1BB0-4C9F-BF60-3158E27A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B0AFB-B7AD-4983-81EF-27248337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B3D2D-6F66-4B11-ADAA-29C4BE24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0103A-E557-4FA1-B872-5CEB17F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7FB81-1D8C-4B9A-B656-1D5DF6BE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258F8-EAC4-46A1-AC1C-9FAF231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25F98-CCC6-4172-93A8-6D812B5B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E4B29-D4C5-4C1E-BF25-18455588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ABD1F-EB37-4300-B8AB-F9B56A65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4BB01-929F-42FD-A6FD-41556052B5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F02A7-5D53-4DC6-B4B7-6FC5584970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241F3-9C78-4057-9E8C-D5CC0A60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71551-99D3-47CE-AC82-63672FB1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6FE29-7924-4609-8FDA-F022CB3A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E2851-E4EE-4168-9969-2DABC60D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B316F-C1B5-487B-884E-3B06A8E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23B86-A44C-44CB-8FC3-C83B7C7B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113D2-C973-4177-9707-CB76C5BC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7F03F-7769-49C0-A62F-C3EBC68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7E759-EC7C-489C-8BA0-61560F3E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0AC09-6261-495E-B388-BA69E456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60605-22A8-4D31-BA2B-74CA9D56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37B83-DA45-4EC3-8B1A-D2973E4FE7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8EDDD-AFCA-469B-92F0-5956A231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ED6F0-3CA9-46E3-B1E5-6760178C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CA3F9-62C5-4F8D-9BE1-CA655133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12CDF-17B9-47C2-BB23-DAB0BC21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707E1-ECAD-4AC2-836D-3DD19420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C007D-8D14-41A9-A5EB-C148BAD2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28FBF-7427-454B-AC37-095F8411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9278C-C30C-4861-A891-AB8CCF5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911AF-2DEE-47F0-87FB-63670E63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BAD27-6FA2-47E4-910C-96369CB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323CB-4C3B-434C-ACCA-A6D7D286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768F6-5EFB-4F19-B7EC-D7CEE41D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2444C-A360-4710-8F8A-1E812CDF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BD63D-98FC-4CE6-95E1-10141F29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1E097-9B58-4B11-B1E9-0F0F290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611E3-FD58-4514-AF89-F5EFEB4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EE97D-33BC-4E16-AEF5-09F80663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BBCC5-6504-4AC5-B42E-972E7429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929FD-036F-497B-A770-D1C4EE1B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1F9E2-8CDE-4B67-A07D-FB203884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CB185-F4DA-4C63-A713-AF683FDF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E9EBB-894B-4C0B-A280-71BAF1FB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7272D-0B8F-498A-8E07-C6B47587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DEBCA-C091-40CF-81FD-1620E9CA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6E412-A9B7-499B-AFEE-98AB9E9C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D7126-B447-49E3-B537-CB9EDE24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F6409-63FF-4966-BB8C-070415B0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EC487-BB98-4470-80DC-1FA17F45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DA53D-09FE-46D7-B3A7-661B25A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E4BAF-697C-4985-9956-8D69E9C0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EAEDC-7BC3-4971-98E2-ADD631D4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B2EC5-6A72-4210-BC1B-2ABCAF5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C114C-A5A3-428A-863B-40BB9DCF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2A2B3-1D66-48CC-BB7C-1A8206E9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246CD-9D22-4EA9-A1F6-517CB8F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8BBD3-DD79-4AE9-A99A-2053739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846EC-D9D9-443D-A1D4-064D8AB1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8B0E6-8E97-47C3-BA35-697B40E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3CF1E-FA62-4B42-803D-4A0B437D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8D592-ECEF-4996-B0B8-E3489E85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C4672-1087-46C3-8196-E91F48C6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33D94-C91F-4635-BB2B-7F71C981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BF1C2-C678-4AC3-87FD-4734B3E1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05723-6BE5-4C80-9706-A461BA81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1063D-A1A2-4566-A4F8-BA58D21F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AFF26-B72A-4C96-9FDF-16B5E6CB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63A4B-66F0-4CCF-AFAF-06EAB916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CDC9-2EBA-4AFB-897A-A7FB6B77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1BE94-1F83-49E5-91A3-544C2D9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1EEDD-3B08-4B5D-B35C-96EC4CC3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5401D-9C1E-48FF-98B8-6F06E30F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868DE-811E-42EF-A9A2-469A2F05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A50B0-9DAF-4D89-8D39-AD9D3D1C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FE9EB-DA2B-4054-9A81-4CD67282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CC9C1-5657-4DF5-BEBC-AD388549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8C838-C9F5-4720-8F12-D6FF5F25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E7E71-BCB8-475A-B8CA-7783EA8D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C147E-488D-4AB0-84CA-78C4EDCB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6A94A-ACA2-41D5-9287-0734C3AF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F18F7-69D7-4BA7-AEE4-32D65529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E8881-F30D-4FC7-89A6-33AAC1DA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85B0D-CF84-4AF1-A978-862CA6F5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4189D-1DC1-46E1-B18C-4DC2F95F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D4081-F311-40FA-96D4-092A5700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BF791-ABBA-41D6-9993-C77E9393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188B7-B39E-4BB8-8FDB-2E2B176F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22365-45EA-43FB-8048-FE5A2DA4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A33E1-5538-49EC-AF8A-1F9633B5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F83BF-B0C5-4D61-B9EE-5E4F61CA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7DED8-A3F5-4E63-99BC-59FDD60B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3FFC4-16CC-4105-9C41-38DC7927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B4B21-4831-4B27-A831-B104D86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826E8-8229-4900-B5B0-F7FDAB47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B7D2A-99A2-4943-8FDB-3BE5B3D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D488E-0264-4679-B828-6A27BA4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427E6-A18A-4686-A1D6-594DB3EC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3702A-D8A3-4C5D-BB1B-99F2B591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26363-5EF2-4439-A9D5-A50822C3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4F80B-C95C-423D-BCB6-880222ED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64EAA-D789-4D45-A4A7-B2D294CF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1ACE3-11BF-4B59-B512-6EE79AB2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29BBD-EDCE-4826-9EC3-1A8E4D32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9DBC7-9ED4-4AC0-AB3D-03B85374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61E10-17E3-4D09-B6F2-595503EA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FDD8A-BA5D-4090-9941-F066A5E2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1970C-D7AF-45C2-B695-E3683787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B067D-C3D7-48B5-BA95-858E4572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FA7E8-0363-45E9-A0FE-460A129D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301E5-EE24-4F84-BE6A-79E385D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E6312-9D4F-4B9A-9214-E94EF59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F8103-F9BA-48D3-BB94-7474FD95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0233E-1210-42FD-8982-A2E92038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EC820-A7D4-41BB-8B77-9E7DE9E5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D47CC-1004-4C3C-8DA9-95C2A632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D9C471-D264-45AE-B3C2-7E6D94A2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50141-2666-45BD-A343-3FE872F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5209C-B2D1-47EF-AA10-7FD04A77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40585-4D48-483B-81E1-16037349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329D6-5FE0-4EA2-8C37-A32FF02D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8DF11-42B6-4117-BE86-7714C170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C31C6-2BE9-4C12-B8ED-7AF450E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7B38A-A3F3-4378-9E4A-472D548B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B1DF9-DCAA-49BD-96AE-05E37A72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02B06F-6B60-456D-9F7D-C461E68B4C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BB756-71B6-4063-87CE-BD4AAD5A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6F161-2718-4E85-9DB6-E0649D3E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B1928-D85B-4464-B7CA-50305F0E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FE3F0-46FE-40D1-BF0D-E5A4F36B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94EB5-9779-4177-BBE3-351888E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B18DF-1962-440F-9665-07F2F7FC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54FC2-ADA6-4CC3-98AD-AEFDD82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5A20F-76A1-46F8-83F4-4789FB8A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3E32D-92C6-4918-AB23-9E6FE175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3AAB5-A390-45D2-BDFA-075A7B98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736BF-DF07-423B-9E58-4E952590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78AC0-EB61-481B-8E44-31EFC92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33C14A-A5DB-4F33-AA2A-F166A445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08799-6D90-41A0-93AB-B29B214E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886E6-E4F1-40A9-9CB2-8CA9F183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9925B-E964-4685-A825-E90A0B58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28AA70-9629-4FBE-B325-D1AFFC61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BE04E7-5D6F-403C-9F99-EB6B58B1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03E30A-70DE-4504-8A23-25925892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36BC60-90B8-43B7-A240-006B7EFA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87CE8F-7305-4C46-89D1-A13A63E9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20612-EA5A-4ADB-9EB7-79B226F9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65C04B-2B19-4070-8B1C-DC298CEE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1E227C-B685-4F71-9B28-E7DD5C0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22E2F-5BC2-4818-849C-5F562C94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7535AF-3948-4D46-92E5-B9B37F6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B5DC3-4506-4D3C-87B2-CFDDC7A2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3DC99-CA05-4663-B75E-01EB5399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8ECDF-2262-437B-B4D5-F90DBCBB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055FF-76F3-4C59-B276-CA2743E7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24C18-40A9-44B0-99F5-D3A8149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A5D78-9A67-4279-A0CE-DF3C064E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C280F2-4926-4509-B8B5-9D622277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6C6A7F-58E3-400E-8C10-E3717F37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D7AD2-0875-4890-802B-49C82080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D8D9A-E2E6-421C-8257-F1C029D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032B0D-11D9-4D36-AA97-6BC11EF5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87174-63F5-47E7-860D-614CCCE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B6A8C-4E6A-4D8E-A241-4F013273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AD0AA6-567A-4507-99C7-C24FD3B9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2F605-7746-46A9-8453-A07384E9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81020-3618-4AC4-9CFA-7F637D83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CE5D65-9629-413D-83E0-E102A252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FBDE-A0E4-48AF-B1FC-B73D5831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6586D-CEAE-4DD1-B65F-80F6E309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56A63-B930-4A12-B606-64EB585A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21D9D-EE5A-4A1B-9BD7-57840F03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E200F-E05D-4B18-AE73-409F5C4A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8A9D12-58C1-420A-A5D6-21F930D9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5123F-DC42-42CE-9238-40F839CD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8EB1B-0E23-43C1-83A2-861EEC783B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5E3E-011F-4154-8D81-FD04AF39DE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201D-61E6-41B8-9715-E78BBBD5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471D-87C1-4D66-9A08-43603286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FB92-28EB-4C86-BE9C-86D057AE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B4B3-8F52-4D9F-9593-FF6B27E7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64E5-C296-4514-B390-41CBC148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1A997-5992-4EC6-BFC7-33DB456F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D05B-40B4-4C88-9EB5-43982545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6C35-61A7-4943-89B4-2E3A1039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12E8-3AB8-430F-AD13-1890FBBA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1410-B164-461B-8EA9-FFDD28D7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2F26-9CE4-4A41-8815-BCE5C34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DBD8-682C-4D16-8EC0-87725727AB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BFB81-E32F-4DE9-8419-0E87A3793C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27F5-30D6-48CB-BA49-83945DC2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940BC-6215-44D7-B9D8-1353C1B8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BAA85-2909-4C45-8275-C74C16D2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6C3A0-0BAA-47FA-85AB-15E97770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BD7EF-9C66-4A23-9656-E7DCC46D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2260C-9681-4C1B-AAEB-AA8FDC27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5F3B5-4AEF-4F8E-A088-7BE4151D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99A16-916D-48CD-814E-778FB4CF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7E6F8-3C4D-4DBC-91E4-6B5E303B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D9194-402B-4627-AADE-057C806D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5A157-53FB-4E45-B5A1-E6D79D4B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A34F-88E1-4214-8410-393E1DE3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70ED6-6A65-43A6-8D92-3594D61F29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48AF3A-DE11-4E88-ACB0-7E9EFFCCA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2610DA-AAF4-412E-AA9E-2CF3004D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1D0FE1-D31D-44BB-93AC-9B15C1BC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8ED69-0435-41A1-AD7A-02CFEFEA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826A18-8D73-4B02-97D6-C06FC6D0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5C1CDC-DCE6-4E59-B1EB-4C692CB8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FBDCC3-C4DB-49CF-BCED-28D6DE02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B7C18-ED34-4E63-B962-EA7A5655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495827-7765-4D24-AD7E-8101D578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F3DC-E172-480B-BFA1-A8FE71CC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046008-85C8-4FE8-9499-F9EB0DCE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3B8B6C-3316-402D-AF25-F9D0F82F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372B50-CCCF-4CC7-9180-E7FA8CE2A5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E5A3D-CA38-4EE4-B217-37148EE131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41AD-F86E-4310-9F26-09441DC7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65476-4C7B-4C21-BB98-52F8BE92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B8FB0-257A-4EC2-B35E-CC3C897A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202AE-7354-4B1F-BA98-462A6180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C299-0E6F-4989-91D8-00443F9A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2B3F2-87D2-4C04-A5DD-F28697FE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E526-7AB1-4233-BB76-18B5B20F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C36DA-584F-44C2-8DA4-AD43BBAF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81F4-6C6F-471C-B0E6-046A9759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BB3E9-BC37-420D-8264-5AAE76EC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440CB-5315-4922-9CB4-EE856A3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DC946-5801-4895-9392-64F577D00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EB0E4-7F65-4AD8-8DBB-D195983EBD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E82A1-4D80-40A5-8CD0-8BE70759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F349A-0815-44E1-9D9E-97C78BBE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97715-A4AA-4E1D-83C6-10F1C06D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89FFC-3FD2-4AD3-BA80-B6927352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6209-B85D-462E-A3AD-AEE69302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4CF14-CAB3-4EB1-AF21-82467525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05CE8-A000-4008-BA1F-9EF7E5FD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2EFB2-79D0-46B9-A6B3-2D7E236A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B9E8B-EAFC-41F1-9927-FEAB845D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6FC1D-3D44-4050-A6EB-0A18F1CE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147D8-7D1B-4942-8A82-13243A6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15730-C11B-41A8-AE67-779149FD3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CF74E-9939-43BF-9C2D-0E78C48224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301FD-4412-4617-A9FA-C2363ECA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F5D55-154C-490E-9935-8AAD3699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7866-16F7-4E46-AB7A-3846565C4E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158D-E0F6-48F2-82A2-A2A78AFFDD4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6E16-FE86-4621-922A-D348A0DF7F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4841-C184-478C-AE13-E46ACD0B64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5BCE-69EC-49BE-A706-A3209BA9CA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E9A-A962-491C-A509-F936C70AE2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70BD-246D-45E1-AF51-4AC98A2945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EA83-A60E-4F2F-B9D3-82828CC38B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2BFD-FF0C-42BE-B623-FAC12A3B35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049D-52D3-49D2-A785-6EBA360F99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5C74-080E-49B7-94C3-E6AB770BCA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89D9-9E3A-4821-8BDF-C84AE8F85C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879D-3A52-44B1-8661-D9E1CF9F44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EE0A-DB4B-45A3-952A-83CD95BA408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33F-5A44-4FD9-B205-D9D083DEF5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ACF0-C0F8-4E06-9938-170D5DD79B7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3CA-A9DE-49F7-9E96-4A92A3A2C7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3C1E-9218-497A-8E6C-DCFBC823D7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6B6C-D8DD-4DF2-B0F6-814CC085F3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2D65-62B7-4AEF-AE80-1C06C7B44B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9808-0E73-483A-8D8F-2B14F0DD42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B9D6-8713-4AAE-B80E-F5F4D5C466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F4E0-9D18-4FE1-9AC7-41E5E52638A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0F3C-65BF-4F96-9151-2224FA80E8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0676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1" lang="zh-CN" sz="2900" spc="-1" strike="noStrike">
                <a:solidFill>
                  <a:srgbClr val="000000"/>
                </a:solidFill>
                <a:latin typeface="汉仪大宋简"/>
                <a:ea typeface="宋体"/>
              </a:rPr>
              <a:t>亿以上数的认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7"/>
          <p:cNvSpPr/>
          <p:nvPr/>
        </p:nvSpPr>
        <p:spPr>
          <a:xfrm>
            <a:off x="71280" y="2362320"/>
            <a:ext cx="8643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  百  十  亿  千  百  十  万  千  百  十  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……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亿  亿  亿         万  万  万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位  位  位  位  位  位  位  位  位  位  位  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945720" y="1224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62467"/>
          <p:cNvSpPr/>
          <p:nvPr/>
        </p:nvSpPr>
        <p:spPr>
          <a:xfrm>
            <a:off x="685800" y="1219320"/>
            <a:ext cx="74674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方正书宋简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方正书宋简体"/>
              </a:rPr>
              <a:t>回顾学过的数位顺序表，它有几级，每级有哪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方正书宋简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方正书宋简体"/>
              </a:rPr>
              <a:t>数位，计数单位各是多少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62468"/>
          <p:cNvSpPr/>
          <p:nvPr/>
        </p:nvSpPr>
        <p:spPr>
          <a:xfrm>
            <a:off x="2487240" y="5073480"/>
            <a:ext cx="68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怎样读、写亿以内的数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4" name="Picture 2" descr="D:\我的文档-桌面-收藏夹\桌面\全球人口.jpg"/>
          <p:cNvPicPr/>
          <p:nvPr/>
        </p:nvPicPr>
        <p:blipFill>
          <a:blip r:embed="rId8"/>
          <a:stretch/>
        </p:blipFill>
        <p:spPr>
          <a:xfrm>
            <a:off x="293760" y="1765440"/>
            <a:ext cx="3357360" cy="3327120"/>
          </a:xfrm>
          <a:prstGeom prst="rect">
            <a:avLst/>
          </a:prstGeom>
          <a:ln w="0">
            <a:noFill/>
          </a:ln>
        </p:spPr>
      </p:pic>
      <p:sp>
        <p:nvSpPr>
          <p:cNvPr id="1025" name="TextBox 4"/>
          <p:cNvSpPr/>
          <p:nvPr/>
        </p:nvSpPr>
        <p:spPr>
          <a:xfrm>
            <a:off x="4143240" y="1643040"/>
            <a:ext cx="4429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全球人口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0000000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圆角矩形标注 5"/>
          <p:cNvSpPr/>
          <p:nvPr/>
        </p:nvSpPr>
        <p:spPr>
          <a:xfrm>
            <a:off x="4071960" y="3857760"/>
            <a:ext cx="3700440" cy="1000080"/>
          </a:xfrm>
          <a:prstGeom prst="wedgeRoundRectCallout">
            <a:avLst>
              <a:gd name="adj1" fmla="val -57078"/>
              <a:gd name="adj2" fmla="val -83490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我快背不动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21"/>
          <p:cNvSpPr/>
          <p:nvPr/>
        </p:nvSpPr>
        <p:spPr>
          <a:xfrm>
            <a:off x="1593360" y="12852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文本框 64513"/>
          <p:cNvSpPr/>
          <p:nvPr/>
        </p:nvSpPr>
        <p:spPr>
          <a:xfrm>
            <a:off x="441720" y="1217520"/>
            <a:ext cx="8105400" cy="28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千   百   十   亿    千   百   十   万     千   百   十   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   亿   亿           万   万   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位   位   位   位    位   位   位   位     位   位   位 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    0      0    0    0     0       0    0     0    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0     0      4    0    0     0       2    0     0 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  0    0     3      0    5    0     0       0    0     0 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456840" y="2665440"/>
            <a:ext cx="8077680" cy="23760"/>
            <a:chOff x="456840" y="2665440"/>
            <a:chExt cx="8077680" cy="23760"/>
          </a:xfrm>
        </p:grpSpPr>
        <p:sp>
          <p:nvSpPr>
            <p:cNvPr id="1031" name="直接连接符 64514"/>
            <p:cNvSpPr/>
            <p:nvPr/>
          </p:nvSpPr>
          <p:spPr>
            <a:xfrm flipV="1">
              <a:off x="457200" y="2665440"/>
              <a:ext cx="8077320" cy="23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 rot="10800000">
              <a:off x="456840" y="2665080"/>
              <a:ext cx="8077320" cy="2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048120" y="1241280"/>
            <a:ext cx="360" cy="3024360"/>
            <a:chOff x="3048120" y="1241280"/>
            <a:chExt cx="360" cy="3024360"/>
          </a:xfrm>
        </p:grpSpPr>
        <p:sp>
          <p:nvSpPr>
            <p:cNvPr id="1034" name="直接连接符 64515"/>
            <p:cNvSpPr/>
            <p:nvPr/>
          </p:nvSpPr>
          <p:spPr>
            <a:xfrm>
              <a:off x="3048120" y="1241280"/>
              <a:ext cx="0" cy="30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3048120" y="1241280"/>
              <a:ext cx="360" cy="30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867280" y="1217520"/>
            <a:ext cx="360" cy="2971800"/>
            <a:chOff x="5867280" y="1217520"/>
            <a:chExt cx="360" cy="2971800"/>
          </a:xfrm>
        </p:grpSpPr>
        <p:sp>
          <p:nvSpPr>
            <p:cNvPr id="1037" name="直接连接符 64516"/>
            <p:cNvSpPr/>
            <p:nvPr/>
          </p:nvSpPr>
          <p:spPr>
            <a:xfrm>
              <a:off x="5867280" y="12175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 txBox="1"/>
            <p:nvPr/>
          </p:nvSpPr>
          <p:spPr>
            <a:xfrm>
              <a:off x="5867280" y="1217520"/>
              <a:ext cx="3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文本框 64517"/>
          <p:cNvSpPr/>
          <p:nvPr/>
        </p:nvSpPr>
        <p:spPr>
          <a:xfrm>
            <a:off x="1717920" y="682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试读出下面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64518"/>
          <p:cNvSpPr/>
          <p:nvPr/>
        </p:nvSpPr>
        <p:spPr>
          <a:xfrm>
            <a:off x="1464480" y="4157640"/>
            <a:ext cx="2741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读作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七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读作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百亿四千万二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读作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千零三亿零五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7"/>
          <p:cNvSpPr/>
          <p:nvPr/>
        </p:nvSpPr>
        <p:spPr>
          <a:xfrm>
            <a:off x="685800" y="7621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总结方法：亿以上的数怎么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5538"/>
          <p:cNvSpPr/>
          <p:nvPr/>
        </p:nvSpPr>
        <p:spPr>
          <a:xfrm>
            <a:off x="990720" y="2009880"/>
            <a:ext cx="29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先分级，再从最高级读起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5539"/>
          <p:cNvSpPr/>
          <p:nvPr/>
        </p:nvSpPr>
        <p:spPr>
          <a:xfrm>
            <a:off x="4503600" y="1515960"/>
            <a:ext cx="3733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读完亿级或万级的数，要加“亿”字或“万”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5540"/>
          <p:cNvSpPr/>
          <p:nvPr/>
        </p:nvSpPr>
        <p:spPr>
          <a:xfrm>
            <a:off x="1676520" y="411480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还要注意什么位置上的</a:t>
            </a:r>
            <a:r>
              <a:rPr b="1" lang="en-US" sz="26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不读，什么位置上的</a:t>
            </a:r>
            <a:r>
              <a:rPr b="1" lang="en-US" sz="26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要读，读几个</a:t>
            </a:r>
            <a:r>
              <a:rPr b="1" lang="en-US" sz="26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图片 65541" descr="E:\2017秋上·黄倩\其他\人\蜜蜂.gif蜜蜂"/>
          <p:cNvPicPr/>
          <p:nvPr/>
        </p:nvPicPr>
        <p:blipFill>
          <a:blip r:embed="rId1"/>
          <a:stretch/>
        </p:blipFill>
        <p:spPr>
          <a:xfrm>
            <a:off x="7905600" y="2743200"/>
            <a:ext cx="933480" cy="102708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65542" descr="E:\2017秋上·黄倩\其他\人\海豚.jpg海豚"/>
          <p:cNvPicPr/>
          <p:nvPr/>
        </p:nvPicPr>
        <p:blipFill>
          <a:blip r:embed="rId2"/>
          <a:stretch/>
        </p:blipFill>
        <p:spPr>
          <a:xfrm>
            <a:off x="196920" y="2714760"/>
            <a:ext cx="901800" cy="109512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5543" descr="9"/>
          <p:cNvPicPr/>
          <p:nvPr/>
        </p:nvPicPr>
        <p:blipFill>
          <a:blip r:embed="rId3"/>
          <a:stretch/>
        </p:blipFill>
        <p:spPr>
          <a:xfrm>
            <a:off x="7132680" y="4572000"/>
            <a:ext cx="868320" cy="1641600"/>
          </a:xfrm>
          <a:prstGeom prst="rect">
            <a:avLst/>
          </a:prstGeom>
          <a:ln w="0">
            <a:noFill/>
          </a:ln>
        </p:spPr>
      </p:pic>
      <p:sp>
        <p:nvSpPr>
          <p:cNvPr id="1048" name="圆角矩形标注 65544"/>
          <p:cNvSpPr/>
          <p:nvPr/>
        </p:nvSpPr>
        <p:spPr>
          <a:xfrm>
            <a:off x="990720" y="1981080"/>
            <a:ext cx="2895480" cy="914400"/>
          </a:xfrm>
          <a:prstGeom prst="wedgeRoundRectCallout">
            <a:avLst>
              <a:gd name="adj1" fmla="val -41171"/>
              <a:gd name="adj2" fmla="val 70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圆角矩形标注 65545"/>
          <p:cNvSpPr/>
          <p:nvPr/>
        </p:nvSpPr>
        <p:spPr>
          <a:xfrm>
            <a:off x="4419720" y="1558800"/>
            <a:ext cx="3504960" cy="1390680"/>
          </a:xfrm>
          <a:prstGeom prst="wedgeRoundRectCallout">
            <a:avLst>
              <a:gd name="adj1" fmla="val 47824"/>
              <a:gd name="adj2" fmla="val 67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圆角矩形标注 65546"/>
          <p:cNvSpPr/>
          <p:nvPr/>
        </p:nvSpPr>
        <p:spPr>
          <a:xfrm>
            <a:off x="1676520" y="4038480"/>
            <a:ext cx="5410080" cy="990720"/>
          </a:xfrm>
          <a:prstGeom prst="wedgeRoundRectCallout">
            <a:avLst>
              <a:gd name="adj1" fmla="val 47800"/>
              <a:gd name="adj2" fmla="val 6618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Box 7"/>
          <p:cNvSpPr/>
          <p:nvPr/>
        </p:nvSpPr>
        <p:spPr>
          <a:xfrm>
            <a:off x="900000" y="16002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自己试着读出下面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20"/>
          <p:cNvGrpSpPr/>
          <p:nvPr/>
        </p:nvGrpSpPr>
        <p:grpSpPr>
          <a:xfrm>
            <a:off x="985680" y="2603520"/>
            <a:ext cx="7547040" cy="1473120"/>
            <a:chOff x="985680" y="2603520"/>
            <a:chExt cx="7547040" cy="1473120"/>
          </a:xfrm>
        </p:grpSpPr>
        <p:sp>
          <p:nvSpPr>
            <p:cNvPr id="1053" name="Rectangle 6"/>
            <p:cNvSpPr/>
            <p:nvPr/>
          </p:nvSpPr>
          <p:spPr>
            <a:xfrm>
              <a:off x="985680" y="2603520"/>
              <a:ext cx="754704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2 0000 0000            267 0500 000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80 4000 3000                3 0070 040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1966680" y="2714760"/>
              <a:ext cx="360" cy="649080"/>
              <a:chOff x="1966680" y="2714760"/>
              <a:chExt cx="360" cy="649080"/>
            </a:xfrm>
          </p:grpSpPr>
          <p:sp>
            <p:nvSpPr>
              <p:cNvPr id="1055" name="Line 7"/>
              <p:cNvSpPr/>
              <p:nvPr/>
            </p:nvSpPr>
            <p:spPr>
              <a:xfrm>
                <a:off x="1966680" y="2714760"/>
                <a:ext cx="0" cy="649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 txBox="1"/>
              <p:nvPr/>
            </p:nvSpPr>
            <p:spPr>
              <a:xfrm>
                <a:off x="1966680" y="2714760"/>
                <a:ext cx="3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2928960" y="2714760"/>
              <a:ext cx="360" cy="649080"/>
              <a:chOff x="2928960" y="2714760"/>
              <a:chExt cx="360" cy="649080"/>
            </a:xfrm>
          </p:grpSpPr>
          <p:sp>
            <p:nvSpPr>
              <p:cNvPr id="1058" name="Line 8"/>
              <p:cNvSpPr/>
              <p:nvPr/>
            </p:nvSpPr>
            <p:spPr>
              <a:xfrm>
                <a:off x="2928960" y="2714760"/>
                <a:ext cx="0" cy="649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 txBox="1"/>
              <p:nvPr/>
            </p:nvSpPr>
            <p:spPr>
              <a:xfrm>
                <a:off x="2928960" y="2714760"/>
                <a:ext cx="3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1966680" y="3427560"/>
              <a:ext cx="360" cy="649080"/>
              <a:chOff x="1966680" y="3427560"/>
              <a:chExt cx="360" cy="649080"/>
            </a:xfrm>
          </p:grpSpPr>
          <p:sp>
            <p:nvSpPr>
              <p:cNvPr id="1061" name="Line 9"/>
              <p:cNvSpPr/>
              <p:nvPr/>
            </p:nvSpPr>
            <p:spPr>
              <a:xfrm>
                <a:off x="1966680" y="3427560"/>
                <a:ext cx="0" cy="649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 txBox="1"/>
              <p:nvPr/>
            </p:nvSpPr>
            <p:spPr>
              <a:xfrm>
                <a:off x="1966680" y="3427560"/>
                <a:ext cx="3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2930400" y="3427560"/>
              <a:ext cx="360" cy="649080"/>
              <a:chOff x="2930400" y="3427560"/>
              <a:chExt cx="360" cy="649080"/>
            </a:xfrm>
          </p:grpSpPr>
          <p:sp>
            <p:nvSpPr>
              <p:cNvPr id="1064" name="Line 10"/>
              <p:cNvSpPr/>
              <p:nvPr/>
            </p:nvSpPr>
            <p:spPr>
              <a:xfrm>
                <a:off x="2930400" y="3427560"/>
                <a:ext cx="0" cy="649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 txBox="1"/>
              <p:nvPr/>
            </p:nvSpPr>
            <p:spPr>
              <a:xfrm>
                <a:off x="2930400" y="3427560"/>
                <a:ext cx="3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6746760" y="3427560"/>
              <a:ext cx="360" cy="649080"/>
              <a:chOff x="6746760" y="3427560"/>
              <a:chExt cx="360" cy="649080"/>
            </a:xfrm>
          </p:grpSpPr>
          <p:sp>
            <p:nvSpPr>
              <p:cNvPr id="1067" name="Line 11"/>
              <p:cNvSpPr/>
              <p:nvPr/>
            </p:nvSpPr>
            <p:spPr>
              <a:xfrm>
                <a:off x="6746760" y="3427560"/>
                <a:ext cx="0" cy="649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 txBox="1"/>
              <p:nvPr/>
            </p:nvSpPr>
            <p:spPr>
              <a:xfrm>
                <a:off x="6746760" y="3427560"/>
                <a:ext cx="3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5789520" y="2714760"/>
              <a:ext cx="360" cy="649080"/>
              <a:chOff x="5789520" y="2714760"/>
              <a:chExt cx="360" cy="649080"/>
            </a:xfrm>
          </p:grpSpPr>
          <p:sp>
            <p:nvSpPr>
              <p:cNvPr id="1070" name="Line 12"/>
              <p:cNvSpPr/>
              <p:nvPr/>
            </p:nvSpPr>
            <p:spPr>
              <a:xfrm>
                <a:off x="5789520" y="2714760"/>
                <a:ext cx="0" cy="649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 txBox="1"/>
              <p:nvPr/>
            </p:nvSpPr>
            <p:spPr>
              <a:xfrm>
                <a:off x="5789520" y="2714760"/>
                <a:ext cx="3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6746760" y="2714760"/>
              <a:ext cx="360" cy="649080"/>
              <a:chOff x="6746760" y="2714760"/>
              <a:chExt cx="360" cy="649080"/>
            </a:xfrm>
          </p:grpSpPr>
          <p:sp>
            <p:nvSpPr>
              <p:cNvPr id="1073" name="Line 13"/>
              <p:cNvSpPr/>
              <p:nvPr/>
            </p:nvSpPr>
            <p:spPr>
              <a:xfrm>
                <a:off x="6746760" y="2714760"/>
                <a:ext cx="0" cy="649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 txBox="1"/>
              <p:nvPr/>
            </p:nvSpPr>
            <p:spPr>
              <a:xfrm>
                <a:off x="6746760" y="2714760"/>
                <a:ext cx="3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5790960" y="3427560"/>
              <a:ext cx="360" cy="649080"/>
              <a:chOff x="5790960" y="3427560"/>
              <a:chExt cx="360" cy="649080"/>
            </a:xfrm>
          </p:grpSpPr>
          <p:sp>
            <p:nvSpPr>
              <p:cNvPr id="1076" name="Line 14"/>
              <p:cNvSpPr/>
              <p:nvPr/>
            </p:nvSpPr>
            <p:spPr>
              <a:xfrm>
                <a:off x="5790960" y="3427560"/>
                <a:ext cx="0" cy="649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 txBox="1"/>
              <p:nvPr/>
            </p:nvSpPr>
            <p:spPr>
              <a:xfrm>
                <a:off x="5790960" y="3427560"/>
                <a:ext cx="3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9" name="Rectangle 64"/>
          <p:cNvSpPr/>
          <p:nvPr/>
        </p:nvSpPr>
        <p:spPr>
          <a:xfrm>
            <a:off x="557280" y="182520"/>
            <a:ext cx="2512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文本框 99"/>
          <p:cNvSpPr/>
          <p:nvPr/>
        </p:nvSpPr>
        <p:spPr>
          <a:xfrm>
            <a:off x="473040" y="755640"/>
            <a:ext cx="79628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八个数字，按要求写出八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大的数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小的数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数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等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亿的数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1"/>
          <p:cNvSpPr/>
          <p:nvPr/>
        </p:nvSpPr>
        <p:spPr>
          <a:xfrm>
            <a:off x="2819520" y="222408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863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2"/>
          <p:cNvSpPr/>
          <p:nvPr/>
        </p:nvSpPr>
        <p:spPr>
          <a:xfrm>
            <a:off x="2846520" y="286236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3"/>
          <p:cNvSpPr/>
          <p:nvPr/>
        </p:nvSpPr>
        <p:spPr>
          <a:xfrm>
            <a:off x="2981160" y="351792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68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4"/>
          <p:cNvSpPr/>
          <p:nvPr/>
        </p:nvSpPr>
        <p:spPr>
          <a:xfrm>
            <a:off x="3780000" y="413532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863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6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32"/>
          <p:cNvSpPr/>
          <p:nvPr/>
        </p:nvSpPr>
        <p:spPr>
          <a:xfrm>
            <a:off x="347760" y="1085760"/>
            <a:ext cx="844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以上数的读法，跟亿以内数的读法一样，都是从高位读起，先读亿级，再读万级，最后读个级。亿级和万级上的数都按个级读法读，读完后加上一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字就可以了，每级开始或中间有一个或连续几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都只读一个零，每级末尾不管有几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都不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01Z</dcterms:modified>
  <cp:revision>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